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597-CCD3-4C2E-96E9-D8BC754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CB3-F886-42C1-9429-A6DD983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BB9-D461-4CBE-B816-8E39FF8B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55D-C643-44CA-A333-9501C7AC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D19-E28B-49E2-907A-F8627B64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243-6B88-40EA-A398-0EA6E5F1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916-F0F2-473C-A4B9-4278FA7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A24-2FBE-4025-9899-973B729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1CF-E3BB-422A-95EB-938FEED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B62-7F73-4B45-AC07-14CBEED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8EF-5061-4B3E-BC7A-3AF4924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487-927D-4014-A673-2453181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16E-26F7-46B8-963D-56D3387BCC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551664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49228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وتصغي 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72132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0339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49360"/>
            <a:ext cx="24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99cc"/>
                </a:solidFill>
                <a:latin typeface="Comic Sans MS"/>
              </a:rPr>
              <a:t>وتصغي 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92720" y="54936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عندك ألق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4724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أحمال السن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15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15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5157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يرتاح قل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341360"/>
            <a:ext cx="32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ويعلو 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6720" y="134136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ينبض بسلام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852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بداخ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190600" cy="334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551664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Comic Sans MS"/>
              </a:rPr>
              <a:t>أنا حين اص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981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81240" y="1405080"/>
            <a:ext cx="298152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32360" y="333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ترتفع ذات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661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فوق ضعفا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0836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فيك ربي 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413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cc66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5734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خوف من الآ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10040" y="1405080"/>
            <a:ext cx="2923920" cy="40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93080" y="4365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8920" y="5589720"/>
            <a:ext cx="37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Comic Sans MS"/>
              </a:rPr>
              <a:t>خوف من الماض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0280"/>
            <a:ext cx="36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000000"/>
                </a:solidFill>
                <a:latin typeface="Comic Sans MS"/>
              </a:rPr>
              <a:t>لسلامك آت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40360" y="54936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66"/>
                </a:solidFill>
                <a:latin typeface="Comic Sans MS"/>
              </a:rPr>
              <a:t>أطمئن</a:t>
            </a: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573360"/>
            <a:ext cx="35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ff0000"/>
                </a:solidFill>
                <a:latin typeface="Comic Sans MS"/>
              </a:rPr>
              <a:t>حبك الأ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00"/>
                </a:solidFill>
                <a:latin typeface="Arial"/>
              </a:rPr>
              <a:t>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5080" y="335772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ظ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0360" y="83664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6699"/>
                </a:solidFill>
                <a:latin typeface="Comic Sans MS"/>
              </a:rPr>
              <a:t>تلمس أعما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4292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99cc"/>
                </a:solidFill>
                <a:latin typeface="Comic Sans MS"/>
              </a:rPr>
              <a:t>ربي الم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47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فاعكس نور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01336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6600" spc="-1" strike="noStrike">
                <a:solidFill>
                  <a:srgbClr val="ffff00"/>
                </a:solidFill>
                <a:latin typeface="Comic Sans MS"/>
              </a:rPr>
              <a:t>للآخ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72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ff"/>
                </a:solidFill>
                <a:latin typeface="Comic Sans MS"/>
                <a:cs typeface="Simplified Arabic Fixed"/>
              </a:rPr>
              <a:t>أنا حين أص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92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360" y="47628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ترتفع ذ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36572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فوق ضعف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96360" y="47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404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في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134136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852640"/>
            <a:ext cx="13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80844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76720" y="90792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آ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2492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860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ماض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522936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000" spc="-1" strike="noStrike">
                <a:solidFill>
                  <a:srgbClr val="ff0000"/>
                </a:solidFill>
                <a:latin typeface="Comic Sans MS"/>
              </a:rPr>
              <a:t>لسلامك آت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4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3:53:08Z</dcterms:created>
  <dc:creator>Couvent</dc:creator>
  <dc:description/>
  <dc:language>en-US</dc:language>
  <cp:lastModifiedBy>Personal</cp:lastModifiedBy>
  <dcterms:modified xsi:type="dcterms:W3CDTF">2008-04-24T04:30:02Z</dcterms:modified>
  <cp:revision>10</cp:revision>
  <dc:subject/>
  <dc:title>Slide 1</dc:title>
</cp:coreProperties>
</file>